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41B-31C9-4906-930A-1829818C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208-8093-426C-B58B-3F50B4A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00764-DA4D-4424-9035-F5C498B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2EFEE-C506-4647-89C6-7965A732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352A0-A75E-4218-A660-90C29A07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B8EA-CD48-497E-A319-7CD6F58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2053-2697-4C7D-A7A2-B0FBD588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CE0C4-AA0B-4DF7-A0DD-00D82FB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C61BE-971D-4527-9726-EC650E4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250CE-E325-4D26-87E4-3CC07A92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EF703-28ED-4796-8A0C-569F7BCF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2EEE0-E766-478F-988E-168B7EEF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69E-B616-4222-9FBD-8F7BCA43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2700D-A7F5-486A-95D4-CFC3481C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FCF4F-9F6C-45EA-BB32-A31FFC59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CC457-32F2-45DE-92D1-B319F094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EE78-0179-474F-B33B-E77E85E2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35940-ADDC-4F01-A0A0-9C082AF4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7593C-8B82-4E74-AFFB-7A9262D1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ACA1B-27FB-4054-B788-20BDED8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673E9-DBB9-4869-A8F8-4D18E58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2277-2D60-496E-8DE1-C22778F2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C2BFD-1D7D-48C6-9A07-3501532C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3E8-FFEE-447B-8463-7FB87FB8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2FDE6-3D32-49DC-9C98-1E1D5609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1911F-91E5-4421-B8D3-21ED5C00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7E189-19E9-4FBC-9BDD-226FC46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E968D-5CCB-4A5D-838C-C7D4C7E3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4FC4F-F998-44F5-B6D3-4EEB4251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878E-FD9F-401B-9150-DB6E97AF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DD16-0E7B-418D-A039-108BA6C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996D4-4FDD-43F9-ABA8-FF3258B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DAD6-8065-476D-9D97-5C0AB37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3E3A-2658-4911-9463-56F0D52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9A5B-7333-46D8-9D57-D028C71C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23C10-EF76-42A7-972C-17C651CB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58E30-1593-45AD-A5B9-4C2D923F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92707-E800-4241-BAF9-A4935FAE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90EA-37E3-4946-B1CE-FB033EAE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1AC62-B648-477E-8289-10DA4B5B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FE153-A97D-4DC7-82F7-1C96B8F7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81042-3824-465B-9354-499E7225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94AD1-A9B7-4C68-89B0-950246E6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6BE2B-8438-4429-A4D9-18F9F2F1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D32BE-2D11-4BF4-88CA-5B15196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A26-E78E-41F7-8272-1BE5D99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576FF-CF8D-4977-90D0-B4385AD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D5096-DF2F-4AFA-8132-D07C802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B3665-0AF5-4955-B95E-17DBB11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3277B-3C85-483E-9F09-760AA450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66DA4-D046-443D-BF68-478035BB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B1EBD-7CDA-4C4B-8A4C-E2916611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8C5F5-BA4F-444E-B02D-B8A19B9B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6561C-BBD0-41BB-B0E2-4AE49E58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7D372-27A9-4AC4-AA27-807459C5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7BA25-6BC5-4E38-B724-118516BD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608-5124-45EE-AE19-B5A5B77A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DF387-E86B-4AC0-8385-7ABD6D7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7FE1E-0034-447A-9175-F841EF6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67BD7-8C3F-40E8-83B5-5CEBEC3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0EBCA-5B49-4FB0-A820-7777E0B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E80A1-23BF-487C-9D01-0C37D76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C3BE4-3AC8-4AFC-9E1B-878A27CF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E4AB5-130B-4DAF-89A9-85B07FFB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199C0-7F87-4A6E-8B9F-50674A03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6F7F9-7147-4FAC-B83A-AC451A5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7C2DD-C8AC-422F-A777-7362972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2D92-B32B-4C63-8A4D-EAFA983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6A4F8-FFC8-44AE-97A5-CCB240D9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8D7BD-405A-4B0B-8861-9EF68A8F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1E80A-7AC9-40D3-AC02-BDF9F66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6F53C-601D-4C37-BE46-E701196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068D9-B1E9-4A76-848D-809F4F4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3C7A8-A745-44D6-A7D9-4C616DA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1D233-98BD-434B-B123-6D172258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7B8B4-A45A-4E2A-AA8A-49911AF9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02324-EA1D-4D75-A15F-74A2737E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58C-7D26-4DB7-85A6-F9E8AAC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DECC-65A7-4FC3-AD3F-ADBA9D0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C8AD-FED9-4F8B-BD16-9AEED12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465-4AAA-4049-A950-D3084B7C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BF2-50D4-4301-8AFD-7691604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CA95-AAE5-42CD-9BFC-5A18260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BF7B-FC52-47BA-965C-060A8C6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6DD-51FA-4432-B9E5-E4DF395A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BD8-6FB0-430E-ACD0-070241B6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4E0E-6852-4D85-A14E-9E7819B5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0F21-9BEE-4A3D-B99F-9521066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001B-5FCF-423B-9CCB-D3DC80BA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0743-ED63-463E-9FCC-DBEF5E55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65D3-B61E-45B0-B218-F3AFA3DB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37D-4095-43ED-ADEE-C091A02D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894C-D012-4CE0-AA88-4613AB3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C742-38BD-4B8E-ABD2-21986C0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A554-9E32-461D-9D3A-3BA88D4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B0AB-9AA0-4E77-AB2F-38782BA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BBB5-A384-4AF7-8FEF-FD70D61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DECC-FD01-4E12-9D52-2565B779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7C75-C835-4A88-B25D-0BA8B159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809EA-FF4D-417D-A116-C19FE2FC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ECF45-5822-4660-9E1C-F8D5498A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8D4E-F6EC-4EF2-BDB5-5D8700C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2C6-FFBD-4F4B-ABBB-3B189D04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5B9C-CF68-449A-884C-569E794C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CDD5-FCA3-42F6-B3E6-9AD0FD79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D616-F1AE-44E2-95D6-FE5136C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83B2-A5C4-4B16-BEA9-50E1118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CC47-7826-47E8-B2B4-0DB14144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5F0F-B790-4F66-856C-26FAE2BF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EB8A-D8F3-4170-8567-CED1CF80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3CDB-3176-4886-A7A8-9DEDDFA7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353D-18AD-444C-8154-9FFEE843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2FBB-76FB-48DF-AB7B-93C752C5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682-9C94-46E0-AFD8-E857D65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6F657-2382-4AAE-8EA1-4E6EEC8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6B8F-014C-469F-B259-5D954002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8B57-7184-4FF5-A6A1-D68369E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EB8B-D82F-44F1-A7E8-0FE6263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9790-9E40-482E-8D80-201B9527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936B-C2BE-46D6-97AB-B8BB198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3CC4-6363-431C-9FFC-535A060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676D-25B5-439B-9AA6-5729BCD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E286-2CC7-4298-80C7-E311C71A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BE61-20C6-4085-8A5F-B5BC9FF4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4A9-6F59-46A8-9C25-945F1E1C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A00F-8B69-43DC-B9CA-3CB9CAB2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03AD-E761-4525-B2A6-A5C6A8C3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1611-826A-4849-9474-BB8B40BC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6CC6-9509-473A-9B82-A3A94CB6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574D6-AD35-42E9-9F85-26A7A7F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F7F7-7E4D-4187-B5C9-7CEDB49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3C93B-1298-4856-8F34-C2B5D33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E1BF-0EDD-4E26-80CB-77438A5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571A6-C1C6-484B-9E21-3CA4FBE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EB4C7-9D0E-4D7E-A22D-9746BCA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6CC-F022-4DD4-8ADD-48859B2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A6AD-2D8A-4765-9B48-8F07AC74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32BC0-846C-4DA4-A62D-B19601F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5E6D-8D6B-4A30-8D7F-D11F7ADF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B3AC6-4EBE-4AC2-BD1D-CA7D3E95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3EE43-DD56-496C-8FC8-13DA30C0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72000-5DDC-40EF-9D33-526C3E18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65EC6-D759-41F5-8CEF-934D511C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D52C4-6A96-45C4-983E-FD013AF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B5CF3-A0B8-416A-892F-8C7588F9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959FC-A5C7-495F-9EFA-F47C926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0FA-AFC6-4CB0-9FEF-EBA372F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446CE-A7FB-4475-9554-52FBFA9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D9104-4C8E-4B93-A9AB-4027515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9B1B3-E431-4023-B1AB-875C0A9A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91245-F08A-4B4A-94BE-D818CA71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70EAB-8969-48D3-82F3-00984EF4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23F46-03CC-4F80-9108-9F47CBEF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8A2A8-0ED4-4E48-85FD-E60D9C1B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A74E8-B5B0-4DC7-B350-56D1415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7CE8-6BA0-4DBB-A25B-EF393B0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86FA-A9E1-4ADE-8C6B-2D05A721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DC6-DE7E-47FD-A21E-320B819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EF4F-D01E-41B3-9320-2B7D6E67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97DA1-E654-4E0C-A3F7-222BE273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8C9C7-F391-49D3-9F53-AC20AC1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74720-5523-4D01-ADA9-C8EE116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72AD-0010-4D17-9077-14626F3E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C5F05-4A50-4C38-93F4-8CAB9649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4A6F-8CBE-4B72-AFD2-EA894649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DE7D0-3190-4767-8BD3-FF4B4DC0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EE8C4-18FE-4EB3-931F-673A7D76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B49CA-0A97-49C0-8525-4A4E18E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6578-CED5-465C-8F9D-D44542C1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0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D8B8-89CE-438E-882D-FF1FA21E2F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5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A4F-AE68-40A7-9AE1-DA4D92C11B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3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26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9B65-87A3-4FAD-99B6-B3E6ACCB67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80C-20FC-40C9-AEF6-469E34B4AE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5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BEA5-CCD4-4ABB-A55C-AFBAB2EA3C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4AB-DCC3-4A81-8C4F-AAC92CA8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3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FDE-2E8B-4BF3-9922-657191A4AE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95B3-D45D-411A-8D7B-4619E876FD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A60-6B4E-43CA-9F8D-940FC69DB1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5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6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7701-457E-44CB-9569-1C1FA37634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736-921B-4D47-A55A-9A489989FB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8F6C-4B3E-4C46-93D1-53E0AD452F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42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43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44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5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46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9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50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51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52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3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54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90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91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2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6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8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9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0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1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2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03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39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40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2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43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2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653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9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660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6B6A-DFA7-4A3E-9871-2B5B89E994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York – Healthc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a6a6"/>
                </a:solidFill>
                <a:latin typeface="Apple Chancery"/>
              </a:rPr>
              <a:t>-40,000 physici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lonna MT"/>
              </a:rPr>
              <a:t>-70 hospit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merican Typewriter Condensed"/>
              </a:rPr>
              <a:t>-375,000 healthcare work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4fd"/>
                </a:solidFill>
                <a:latin typeface="Goudy Old Style"/>
              </a:rPr>
              <a:t>-Mount Sinai: first liver transplant, cigarettes to cancer, artificial kidney, flu sho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4" descr="San_Francisco-1853"/>
          <p:cNvPicPr/>
          <p:nvPr/>
        </p:nvPicPr>
        <p:blipFill>
          <a:blip r:embed="rId1"/>
          <a:stretch/>
        </p:blipFill>
        <p:spPr>
          <a:xfrm>
            <a:off x="0" y="2573280"/>
            <a:ext cx="91440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icago - Spor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LB: Cubs, White S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cCursive"/>
                <a:ea typeface="AbcCursive"/>
              </a:rPr>
              <a:t>-NBA: Bu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pple Chancery"/>
                <a:ea typeface="Apple Chancery"/>
              </a:rPr>
              <a:t>-NHL: Blackhaw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ndale Mono"/>
              </a:rPr>
              <a:t>-Football: B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lleges: DePaul, Loyola, UIC, Northwes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dffde"/>
                </a:solidFill>
                <a:latin typeface="Arno Pro Bold Italic SmText"/>
              </a:rPr>
              <a:t>-Stadiums: 10+ major ven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"/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hicago – Major Compani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-Encyclopedia Britannic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cc"/>
                </a:solidFill>
                <a:latin typeface="Bell Gothic Std"/>
              </a:rPr>
              <a:t>-Orbitz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f5d"/>
                </a:solidFill>
                <a:latin typeface="Corbel"/>
              </a:rPr>
              <a:t>-Tootsie Rol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f0ff"/>
                </a:solidFill>
                <a:latin typeface="Eurostile"/>
              </a:rPr>
              <a:t>-US Cellula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b74"/>
                </a:solidFill>
                <a:latin typeface="Kino MT"/>
              </a:rPr>
              <a:t>-United Airli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ff12"/>
                </a:solidFill>
                <a:latin typeface="Futura Medium"/>
              </a:rPr>
              <a:t>-McDondald’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52e"/>
                </a:solidFill>
                <a:latin typeface="Verdana"/>
              </a:rPr>
              <a:t>-Walgree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500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icago – Transpor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.7 million rides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“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ubway: 8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bs: 7,000 in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High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irports: O’Hare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siest, 70,000,000), Mid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4" descr="Chicago El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5" descr="Chicago Highway"/>
          <p:cNvPicPr/>
          <p:nvPr/>
        </p:nvPicPr>
        <p:blipFill>
          <a:blip r:embed="rId2"/>
          <a:stretch/>
        </p:blipFill>
        <p:spPr>
          <a:xfrm>
            <a:off x="1468440" y="0"/>
            <a:ext cx="6207120" cy="68580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6" descr="Chicago Subway"/>
          <p:cNvPicPr/>
          <p:nvPr/>
        </p:nvPicPr>
        <p:blipFill>
          <a:blip r:embed="rId3"/>
          <a:stretch/>
        </p:blipFill>
        <p:spPr>
          <a:xfrm>
            <a:off x="2209680" y="152280"/>
            <a:ext cx="4807080" cy="6600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7" descr="Chicago Train"/>
          <p:cNvPicPr/>
          <p:nvPr/>
        </p:nvPicPr>
        <p:blipFill>
          <a:blip r:embed="rId4"/>
          <a:stretch/>
        </p:blipFill>
        <p:spPr>
          <a:xfrm>
            <a:off x="1143000" y="-152280"/>
            <a:ext cx="7362720" cy="70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s Angeles – Entertain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fff8"/>
                </a:solidFill>
                <a:latin typeface="MaestroTimes"/>
              </a:rPr>
              <a:t>-Hollywood – ab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 80% of mov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f5d"/>
                </a:solidFill>
                <a:latin typeface="Harrington"/>
              </a:rPr>
              <a:t>-Academy Aw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91ff"/>
                </a:solidFill>
                <a:latin typeface="Herculanum"/>
              </a:rPr>
              <a:t>-Los Angeles Lak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b74"/>
                </a:solidFill>
                <a:latin typeface="Monaco"/>
              </a:rPr>
              <a:t>-The Tonight Sh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df0ff"/>
                </a:solidFill>
                <a:latin typeface="Jazz LET"/>
              </a:rPr>
              <a:t>-Dr. Phi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Wheel of Fortu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6" name="Picture 4" descr="LA Stars6"/>
          <p:cNvPicPr/>
          <p:nvPr/>
        </p:nvPicPr>
        <p:blipFill>
          <a:blip r:embed="rId2"/>
          <a:stretch/>
        </p:blipFill>
        <p:spPr>
          <a:xfrm>
            <a:off x="2362320" y="76320"/>
            <a:ext cx="4451400" cy="67053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5" descr="LA Stars8"/>
          <p:cNvPicPr/>
          <p:nvPr/>
        </p:nvPicPr>
        <p:blipFill>
          <a:blip r:embed="rId3"/>
          <a:stretch/>
        </p:blipFill>
        <p:spPr>
          <a:xfrm>
            <a:off x="2362320" y="76320"/>
            <a:ext cx="4460760" cy="6705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6" descr="LA Stars7"/>
          <p:cNvPicPr/>
          <p:nvPr/>
        </p:nvPicPr>
        <p:blipFill>
          <a:blip r:embed="rId4"/>
          <a:stretch/>
        </p:blipFill>
        <p:spPr>
          <a:xfrm>
            <a:off x="2438280" y="228600"/>
            <a:ext cx="4359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s Angeles - Transpor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Subway, train, cabs, busses – 1.7 million per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Airports: 5 major airports, 75 million combi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Port: 43 miles of coast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1" name="Picture 5" descr="LAX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ew York – The Ar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entury Gothic"/>
              </a:rPr>
              <a:t>-Broadw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f5d"/>
                </a:solidFill>
                <a:latin typeface="Prestige Elite Std"/>
              </a:rPr>
              <a:t>-MT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9dff"/>
                </a:solidFill>
                <a:latin typeface="Papyrus"/>
              </a:rPr>
              <a:t>-VH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-The On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cccc"/>
                </a:solidFill>
                <a:latin typeface="Calibri"/>
              </a:rPr>
              <a:t>-Metropolitan Museum of Art: 2 million works of a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23:52Z</dcterms:created>
  <dc:creator>Art Vandelay</dc:creator>
  <dc:description/>
  <dc:language>en-US</dc:language>
  <cp:lastModifiedBy>Franklin</cp:lastModifiedBy>
  <dcterms:modified xsi:type="dcterms:W3CDTF">2009-12-06T23:18:05Z</dcterms:modified>
  <cp:revision>10</cp:revision>
  <dc:subject/>
  <dc:title>Chicago</dc:title>
</cp:coreProperties>
</file>